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DB3-9EC1-48E0-AB16-54DFA873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8EE-BE20-4C56-B1BA-2DE809C0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CC7-5D65-474F-97B9-A766FAF3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8B5-19A4-430A-9F64-A93E560F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E2EA-684C-4ED9-8F71-760FAAE7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9FC6-8871-47DD-A55C-37B13BAA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D5B3-C170-477C-8B11-421D88A8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D50F-F936-4162-A69E-27765E34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E350-FCC9-43F3-A53F-F0593C95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77BC-A679-4598-B398-EF27FA9A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F31E-5D46-4454-9CB9-AC683B6E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C68-D902-47D5-9B8A-2C951664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9452-2950-4870-B420-28E40CFA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4D01-0C51-4673-9E5E-F03F38B1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FF3F-A317-4889-8804-DF6C10A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2A1E-8916-4139-A342-E170BCE2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DC3F-EB14-4433-AD41-89AE78D6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7BB8-7868-4FEE-AE07-7799BD2A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4EAA-2DAB-4154-89CB-EFF91EC4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0E81-3273-4C65-B614-D4CE2C2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F4710-1307-4A1F-BDA0-381B2759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C30C-E3BA-4989-94DA-CBA31083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22C-3327-4C90-977E-C295A066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F53B-FCF8-4F6A-9C34-D5B2B1B8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A6BC-D551-4C21-8944-409688C7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8586-A691-4E1A-8EB6-681CBEE9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ED64-FEA0-453C-B2DF-E2CD244D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C21B-7281-4C6F-94D7-99B5930E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479B-B885-44F3-8DDD-68142CB2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C17B-05E6-4C40-96CB-9A121D37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1CF3-6B4A-45AE-973D-28F5145F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9465-53DD-4215-AEB0-B085B996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8586-6AC5-4E70-B228-61BBA127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373-8EEC-4162-8D33-AC8FC9F1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3F40-2708-4E40-B6D7-0A8F539C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0E76-8CC3-4E14-9C84-5BB553DB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F24A-1A47-4957-8E92-C2075D7B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D0F8-7F6D-4399-A9FC-E329FD3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70CC9-A315-4EA5-B1BB-D2E63C4C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A70E-F1F0-4B25-A926-F3C6C45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C828-EC94-429B-9D87-C405E6D4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6C2C-5641-4F52-8188-B4E33507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31D2-1CD4-46F8-BC85-946D0F8B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8B553-08A1-40C8-91FF-79151525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2B3-5891-4A1C-80FC-4CE02166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329E6-736D-494A-BF16-AB29A236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D303-EC90-4F31-B017-1C4C065B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FDE83-D4C2-45C4-BD09-6CBE5181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C44A-F5A6-445C-B535-8FD16DB2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6172-E184-4BBE-9CF5-545BA9CC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5339-BE42-444D-A89A-F0CD5F02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BBFAE-A10F-4359-8D88-2374A6EA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30977-44F2-459E-A18D-28472F7E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4FED7-BB60-4936-B4F8-BA7CBE98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5EFC-CE11-4164-A741-270CFD4A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5CC-EBEF-4409-8C0A-0ACFFDE6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C91A8-3407-4F86-B26D-ED01E4C3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B51-491F-4911-9CC9-F5530E2E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A95-17B2-4F9B-A709-BD1C3A7D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28E-4B35-4C05-933A-B2F12626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0B8F-7C16-428F-8DE8-3CE9C6F9689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ort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nello 8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Anello 8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ttangolo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tangolo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EF45-FC1F-40A5-9675-9B5274FC651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tangolo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tangolo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vale 8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2" name="Ovale 8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e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385-0D30-4ACF-A96A-8A7BBA77A9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ort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Anello 8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9" name="Anello 8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ttangolo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142E-D5B1-4812-9C25-41059150D18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ort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Anello 8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87" name="Anello 8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ttangolo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ttangolo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7DF4-1730-4463-88E8-7B76D594F6C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TgK4HEGPwQ" TargetMode="External"/><Relationship Id="rId2" Type="http://schemas.openxmlformats.org/officeDocument/2006/relationships/image" Target="../media/image6.png"/><Relationship Id="rId3" Type="http://schemas.openxmlformats.org/officeDocument/2006/relationships/hyperlink" Target="file:///UNESCO_ICT_CFT%5B6_0%5D.pdf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video/Lim_Italiano_Montelupo.flv" TargetMode="External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EFKfXiCbLw" TargetMode="External"/><Relationship Id="rId2" Type="http://schemas.openxmlformats.org/officeDocument/2006/relationships/hyperlink" Target="file:///Hai%20prestato%20attenzione_%20%5Bwww.keepvid.com%5D.avi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erchi2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1714680"/>
            <a:ext cx="740736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LIM  E  DIDATTICA.</a:t>
            </a:r>
            <a:br>
              <a:rPr sz="2400"/>
            </a:b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Per un  orizzonte di senso  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042920" y="2997360"/>
            <a:ext cx="7632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Corso di formazione docent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m in classe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f271c"/>
                </a:solidFill>
                <a:latin typeface="Gill Sans MT"/>
              </a:rPr>
              <a:t>Paler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f271c"/>
                </a:solidFill>
                <a:latin typeface="Gill Sans MT"/>
              </a:rPr>
              <a:t>8 settembr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f271c"/>
                </a:solidFill>
                <a:latin typeface="Gill Sans MT"/>
              </a:rPr>
              <a:t>a cura di Loredana Pecor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428920" y="-21456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0e04"/>
                </a:solidFill>
                <a:latin typeface="Arial"/>
              </a:rPr>
              <a:t>Mi scusi, ma per andare dove dobbiamo andare, per dove dobbiamo and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285920"/>
            <a:ext cx="3133800" cy="4332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85840" y="457200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UNESCO QUADRO DI RIFERIMENTO DELLE _x000b_COMPETENZE PER I DOCENTI SULLE TIC </a:t>
            </a:r>
            <a:br>
              <a:rPr sz="1600"/>
            </a:br>
            <a:r>
              <a:rPr b="1" lang="it-IT" sz="1600" spc="-1" strike="noStrike">
                <a:solidFill>
                  <a:srgbClr val="572314"/>
                </a:solidFill>
                <a:latin typeface="Arial"/>
              </a:rPr>
              <a:t>(TECNOLOGIE DELL’INFORMAZIONE E DELLA COMUNICAZIONE) </a:t>
            </a:r>
            <a:endParaRPr b="0" lang="en-US" sz="16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Indicazioni per il currico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alla  scuola del nuovo scenario spetta il compit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offrire agli studenti occasioni di apprendimento dei saperi e dei linguaggi culturali di b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far sì che gli studenti acquisiscano gli strumenti di pensiero necessari per apprendere a selezionare le informazio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promuovere negli studenti la capacità di elaborare metodi e categorie che siano in grado di fare da bussola negli itinerari person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favorire l’autonomia di pensiero degli studenti, orientando la propria didattica alla costruzione di saperi a partire da concreti bisogni formativ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72314"/>
                </a:solidFill>
                <a:latin typeface="Gill Sans MT"/>
              </a:rPr>
              <a:t>Competenze chiave di cittadinanza</a:t>
            </a:r>
            <a:br>
              <a:rPr sz="3200"/>
            </a:br>
            <a:r>
              <a:rPr b="1" lang="it-IT" sz="1400" spc="-1" strike="noStrike">
                <a:solidFill>
                  <a:srgbClr val="572314"/>
                </a:solidFill>
                <a:latin typeface="Gill Sans MT"/>
              </a:rPr>
              <a:t>da acquisire al termine dell’istruzione obbligatoria</a:t>
            </a:r>
            <a:endParaRPr b="0" lang="en-US" sz="1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6920" y="1052280"/>
            <a:ext cx="76755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Imparare ad impa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Proget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Comuni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comprendere 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messaggi di genere diverso (quotidiano, letterario, tecnico, scientifico)e di complessità diversa, trasmessi utilizzando linguaggi diversi (verbale,matematico, scientifico, simbolico, ecc.) mediante diversi supporti (cartacei,informatici e multimedial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rappresentare 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Collaborare e partecip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Agire in modo autonomo e responsa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Risolver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Acquisire ed interpretare l’informazione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: acquisire ed interpretare criticamente l'informazione ricevuta nei diversi ambiti ed attraverso diversi strumenti comunicativi, valutandone l’attendibilità e l’utilità, distinguendo fatti e opinio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340000" y="658332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.M. 139 del 22 Agosto 2007, Allega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85600" y="1000080"/>
            <a:ext cx="735804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0e04"/>
                </a:solidFill>
                <a:latin typeface="Arial"/>
              </a:rPr>
              <a:t>Competenze chi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20e04"/>
                </a:solidFill>
                <a:latin typeface="Arial"/>
              </a:rPr>
              <a:t>per l’apprendimento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20e04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20e04"/>
                </a:solidFill>
                <a:latin typeface="Arial"/>
              </a:rPr>
              <a:t>indicate dalle Raccomandazioni del Parlamento europeo e del Consi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320e04"/>
                </a:solidFill>
                <a:latin typeface="Arial"/>
              </a:rPr>
              <a:t>del 18 dicembr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rcRect l="23062" t="45901" r="14349" b="12111"/>
          <a:stretch/>
        </p:blipFill>
        <p:spPr>
          <a:xfrm>
            <a:off x="642960" y="2857680"/>
            <a:ext cx="8143920" cy="307152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276" name="Text Box 5"/>
          <p:cNvSpPr/>
          <p:nvPr/>
        </p:nvSpPr>
        <p:spPr>
          <a:xfrm>
            <a:off x="2340000" y="658332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.M. 139 del 22 Agosto 2007, Allega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e 6"/>
          <p:cNvSpPr/>
          <p:nvPr/>
        </p:nvSpPr>
        <p:spPr>
          <a:xfrm>
            <a:off x="928800" y="4286160"/>
            <a:ext cx="2643120" cy="428760"/>
          </a:xfrm>
          <a:prstGeom prst="ellipse">
            <a:avLst/>
          </a:prstGeom>
          <a:solidFill>
            <a:srgbClr val="3891a7">
              <a:alpha val="21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rcRect l="21413" t="14651" r="55940" b="76565"/>
          <a:stretch/>
        </p:blipFill>
        <p:spPr>
          <a:xfrm>
            <a:off x="2357280" y="714240"/>
            <a:ext cx="5397480" cy="1214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rcRect l="21413" t="23440" r="6112" b="30664"/>
          <a:stretch/>
        </p:blipFill>
        <p:spPr>
          <a:xfrm>
            <a:off x="357120" y="2571840"/>
            <a:ext cx="8786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Gli assi culturali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44480" y="1773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sse dei lingua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2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sse matema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2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sse scientifico- tecn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2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sse storico-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340000" y="658332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.M. 139 del 22 Agosto 2007. Allega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Gli assi culturali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03280" y="1052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asse dei linguagg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dronanza della lingua ital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are una lingua stran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are gli strumenti per la fruizione consapevole del patrimonio artistico e lette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are e produrre testi multimed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ompetenza digitale, contenuta nell’asse dei linguaggi, è comune a tutti gli assi, sia per favorire l’accesso ai saperi sia  per rafforzare le potenzialità espressive individu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54446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Finalità</a:t>
            </a:r>
            <a:br>
              <a:rPr sz="3500"/>
            </a:b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“promozione del pieno sviluppo della persona”</a:t>
            </a:r>
            <a:br>
              <a:rPr sz="2500"/>
            </a:b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7280" y="-3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 SCUOLA  ACCOMPAGNA L’ALUNNO NEL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laborare il senso della propria esper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muovere la cittadinanza at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quisire gli alfabeti di base della 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DUCARE -ISTRU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2636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Cittadinanza e Costituzione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it-IT" sz="1400" spc="-1" strike="noStrike">
                <a:solidFill>
                  <a:srgbClr val="572314"/>
                </a:solidFill>
                <a:latin typeface="Arial"/>
              </a:rPr>
              <a:t>4 marzo 2009</a:t>
            </a:r>
            <a:endParaRPr b="0" lang="en-US" sz="14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675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572314"/>
                </a:solidFill>
                <a:latin typeface="Verdana"/>
              </a:rPr>
              <a:t>ICT E DIDATTICA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03280" y="1700280"/>
            <a:ext cx="7283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La tecnologia come metodologia didattica non implica in sé un cambiamento necessariamente migliorativo, al contrario sono le modalità ed i contesti d’uso a determinarne la valenza. “Educare con i  media  significa mettere in grado di impiegare i media a scopo di apprendimento” (Calvani, 200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900000" y="1773360"/>
            <a:ext cx="784728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lustrare il quadro teorico di riferimento e le riflessioni in atto (epistemologia e sociologia della conoscenza), presupposto per l’uso delle ICT nella didattic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flettere su come l’uso,  nella didattica,  delle tecnologie dell’informazione e della comunicazione (ICT), possa influire sul processo di insegnamento-apprendiment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flettere sui profondi cambiamenti che l’uso dell’ICT richiede nella programmazione curricolare e nell’organizzazione didattic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ere la consapevolezza dei possibili usi dell’ICT nella didattic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900000" y="1484280"/>
            <a:ext cx="8064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MA DI INIZIARE IL CORSO DI FORMAZIONE OCCOR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187280" y="18900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572314"/>
                </a:solidFill>
                <a:latin typeface="Gill Sans MT"/>
              </a:rPr>
              <a:t>Perché l’introduzione delle ICT nella class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547640" y="476280"/>
            <a:ext cx="72360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Gill Sans MT"/>
              </a:rPr>
              <a:t>Gli ambienti di apprendimen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La “didattica” concerne il complesso di interventi volti a progettare, allestire, gestire, valutare “ambienti di apprendimento”, cioè speciali contesti ritenuti atti a favorire particolari processi acquisitivi in soggetti inesperti, risultanti da un'idonea integrazione di artefatti culturali, normativi, tecnologici e di specifiche azioni uma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(Calvan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042920" y="685800"/>
            <a:ext cx="764388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alvan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4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Ogni concezione didattica si richiama, anche in forma implicita, a particolari teorie della conoscenza ed a più generali assunzioni valoriali. Solo una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Verdana"/>
              </a:rPr>
              <a:t>concezione ingenua vede le tecnologie come appendici neutre, statiche, povere di significatività teorica e cultural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. Calate nei diversi contesti socio-culturali, esse si coniugano ed amplificano determinati assunti teorici, atteggiamenti, orientamenti del pensiero e della cultur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lnSpc>
                <a:spcPct val="14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304920" y="152280"/>
            <a:ext cx="84582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Fra i tre livelli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eorico-epistemico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dattico-progettual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ecnologico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i generano dinamich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 vario tip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Object 3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3938400" cy="205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547640" y="189000"/>
            <a:ext cx="6804360" cy="69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Centralità dell’apprendere più che dell’insegnare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Gill Sans MT"/>
              </a:rPr>
              <a:t>Sapere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come “trasmissione”,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come “elaborazione di informazione”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o come “costruzione attiva di significati”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Esso ha un carattere prevalentemente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individuale o negoziale,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astratto o concreto-contestualizzato,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indivisibile o scomponibile,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univoco o multidimensionale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835280" y="1773360"/>
            <a:ext cx="64022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La conoscenza è prodotto di una  costruzione attiva del soggetto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ha carattere “situato”, ancorato nel contesto concreto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si svolge attraverso particolari forme di collaborazione e negoziazione sociale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it-IT" sz="3000" spc="-1" strike="noStrike">
                <a:solidFill>
                  <a:srgbClr val="4f271c"/>
                </a:solidFill>
                <a:latin typeface="Gill Sans MT"/>
              </a:rPr>
              <a:t>Jonassen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, 1994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763640" y="6206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f271c"/>
                </a:solidFill>
                <a:latin typeface="Gill Sans MT"/>
              </a:rPr>
              <a:t>Costruttivism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403280" y="189000"/>
            <a:ext cx="7274160" cy="76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In primo piano viene posta la “costruzione del significato” sottolineando il caratter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attiv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polisemic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non predetermin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5000"/>
              </a:lnSpc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1" lang="it-IT" sz="2400" spc="-1" strike="noStrike">
                <a:solidFill>
                  <a:srgbClr val="4f271c"/>
                </a:solidFill>
                <a:latin typeface="Arial"/>
              </a:rPr>
              <a:t>Il costruttivismo è pervaso da una esigenza di “rifiuto” vers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5000"/>
              </a:lnSpc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una figura di insegnante come fornitore di informazioni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l distacco della scuola dalla vita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l carattere “inerte” della conoscenza che gli alunni dovrebbero acquisi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1692360" y="404640"/>
            <a:ext cx="65548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4f271c"/>
                </a:solidFill>
                <a:latin typeface="Gill Sans MT"/>
              </a:rPr>
              <a:t>Gli ambienti di apprendimento di taglio costruttivistico sono orientati 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dare enfasi alla costruzione della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conoscenza e non alla sua riprodu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evitare eccessive semplificazioni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rappresentando la naturale complessità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del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mondo re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presentare compiti autentici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(contestualizzare piuttosto che astrar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offrire ambienti di apprendimento assunti dal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mondo reale, basati su casi, piuttosto che su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sequenze istruttive predetermin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187280" y="1125360"/>
            <a:ext cx="742320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4f271c"/>
                </a:solidFill>
                <a:latin typeface="Gill Sans MT"/>
              </a:rPr>
              <a:t>(2) Gli ambienti di apprendimento di taglio costruttivistico sono orientati 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offrire rappresentazioni multiple della realtà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alimentare pratiche riflessi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permettere costruzioni di conoscenze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dipendenti dal contesto e dal contenu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favorire la costruzione cooperativa della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conoscenza,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attraverso la negoziazione soci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3673440" cy="4800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1332000" y="0"/>
            <a:ext cx="7812000" cy="68533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340000" y="314172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1692360" y="1197000"/>
            <a:ext cx="6983280" cy="1143000"/>
          </a:xfrm>
          <a:prstGeom prst="rect">
            <a:avLst/>
          </a:prstGeom>
          <a:solidFill>
            <a:srgbClr val="c7ac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Community of learners (Brown, 1996; Ligorio, 1994)</a:t>
            </a:r>
            <a:r>
              <a:rPr b="1" lang="it-IT" sz="43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4300"/>
            </a:b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1692360" y="2852640"/>
            <a:ext cx="6983280" cy="1143000"/>
          </a:xfrm>
          <a:prstGeom prst="rect">
            <a:avLst/>
          </a:prstGeom>
          <a:solidFill>
            <a:srgbClr val="c7ac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Apprendistato cognitivo (Collins e Holum, </a:t>
            </a: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1991; Collins, Brown e Newman, 1995)</a:t>
            </a: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1692360" y="4221000"/>
            <a:ext cx="6983280" cy="936720"/>
          </a:xfrm>
          <a:prstGeom prst="rect">
            <a:avLst/>
          </a:prstGeom>
          <a:solidFill>
            <a:srgbClr val="c7ac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Gill Sans MT"/>
              </a:rPr>
              <a:t>Progetto teorie per l’apprendimento basate su </a:t>
            </a:r>
            <a:r>
              <a:rPr b="0" lang="it-IT" sz="2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Gill Sans MT"/>
              </a:rPr>
              <a:t>tecnologie ipertestuali (CognitiveFlexibility theory - Spiro, 1995)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1332000" y="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572314"/>
                </a:solidFill>
                <a:latin typeface="Gill Sans MT"/>
              </a:rPr>
              <a:t>Dai principi del</a:t>
            </a:r>
            <a:r>
              <a:rPr b="1" lang="it-IT" sz="28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it-IT" sz="2800" spc="-1" strike="noStrike">
                <a:solidFill>
                  <a:srgbClr val="572314"/>
                </a:solidFill>
                <a:latin typeface="Gill Sans MT"/>
              </a:rPr>
              <a:t>costruttivismo derivano vari modelli didattici. I più noti son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1476360" y="1052640"/>
            <a:ext cx="7272360" cy="129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1547640" y="2708280"/>
            <a:ext cx="727236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1835280" y="5661000"/>
            <a:ext cx="6553080" cy="934920"/>
          </a:xfrm>
          <a:prstGeom prst="rect">
            <a:avLst/>
          </a:prstGeom>
          <a:solidFill>
            <a:srgbClr val="c7ac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it-IT" sz="2200" spc="-1" strike="noStrike">
                <a:solidFill>
                  <a:srgbClr val="ffffff"/>
                </a:solidFill>
                <a:latin typeface="Gill Sans MT"/>
              </a:rPr>
              <a:t>Ambienti di apprendimento intenzionale sostenuto al compute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900" spc="-1" strike="noStrike">
                <a:solidFill>
                  <a:srgbClr val="572314"/>
                </a:solidFill>
                <a:latin typeface="Arial"/>
              </a:rPr>
              <a:t>La LIM</a:t>
            </a:r>
            <a:br>
              <a:rPr sz="3900"/>
            </a:br>
            <a:r>
              <a:rPr b="0" lang="it-IT" sz="3900" spc="-1" strike="noStrike">
                <a:solidFill>
                  <a:srgbClr val="572314"/>
                </a:solidFill>
                <a:latin typeface="Arial"/>
              </a:rPr>
              <a:t>Lavagna Interattiva Multimediale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RE LA CLASSE AL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 di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ambiente di apprendiment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di formazione in cui tutti possono interagire con quanto avviene sullo scher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6096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Cornice cultural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187280" y="2349360"/>
            <a:ext cx="190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rte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187280" y="1197000"/>
            <a:ext cx="7643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 una società stabile ad una in continuo cambiam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708360" y="2349360"/>
            <a:ext cx="198108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mutevolezz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6732720" y="234936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luralis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2590920" y="3505320"/>
            <a:ext cx="4190760" cy="2286000"/>
          </a:xfrm>
          <a:prstGeom prst="downArrowCallout">
            <a:avLst>
              <a:gd name="adj1" fmla="val 21271"/>
              <a:gd name="adj2" fmla="val 28678"/>
              <a:gd name="adj3" fmla="val 19269"/>
              <a:gd name="adj4" fmla="val 6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cchie forme di analfabetizzazi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nalfabetizzazione di ritor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nadeguatezza cultur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nalizzazione nell’accesso delle T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1979640" y="285264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6300360" y="2852640"/>
            <a:ext cx="1366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500720" y="2786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352680" y="5791320"/>
            <a:ext cx="274320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Verdana"/>
              </a:rPr>
              <a:t>ambivalenz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403280" y="6381720"/>
            <a:ext cx="71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alle Indicazioni per  il curricolo della scuola dell'infanzia e del primo ciclo d’istruzi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71720" y="5285880"/>
            <a:ext cx="771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72314"/>
                </a:solidFill>
                <a:latin typeface="Arial"/>
              </a:rPr>
              <a:t>Una delle "proprietà" della LIM è quella di </a:t>
            </a:r>
            <a:r>
              <a:rPr b="0" i="1" lang="it-IT" sz="1400" spc="-1" strike="noStrike">
                <a:solidFill>
                  <a:srgbClr val="572314"/>
                </a:solidFill>
                <a:latin typeface="Arial"/>
              </a:rPr>
              <a:t>allinearsi</a:t>
            </a:r>
            <a:r>
              <a:rPr b="0" lang="it-IT" sz="1400" spc="-1" strike="noStrike">
                <a:solidFill>
                  <a:srgbClr val="572314"/>
                </a:solidFill>
                <a:latin typeface="Arial"/>
              </a:rPr>
              <a:t> al linguaggio, delle immagini, dei filmati, della fruizione interattiva, cui le nuove generazioni e i loro stili d’apprendimento sono ormai abituate. </a:t>
            </a:r>
            <a:endParaRPr b="0" lang="en-US" sz="14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632120" cy="3451320"/>
          </a:xfrm>
          <a:prstGeom prst="rect">
            <a:avLst/>
          </a:prstGeom>
          <a:ln w="0">
            <a:noFill/>
          </a:ln>
        </p:spPr>
      </p:pic>
      <p:sp>
        <p:nvSpPr>
          <p:cNvPr id="317" name="Titolo 1"/>
          <p:cNvSpPr/>
          <p:nvPr/>
        </p:nvSpPr>
        <p:spPr>
          <a:xfrm>
            <a:off x="1587600" y="42696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Lim 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LEZIONI DI TIPO INTERATTIVO/DIMOSTRATIVO, COOPERATIVO, COSTRUTTIVO; 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LEZIONE FRONTALE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CONDURRE DUNQUE ATTIVITÀ COLLABORATIVE E LABORATORIALI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SVOLGERE LE INTERROGAZIONI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LA NAVIGAZIONE E RICERCA SU WEB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 PER PRESENTARE IN MODO INNOVATIVO STUDI ED ELABORATI REALIZZATI DAGLI STUDENTI.</a:t>
            </a:r>
            <a:endParaRPr b="0" lang="en-US" sz="1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77960" y="1642680"/>
            <a:ext cx="64008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La lavagna interattiva può essere impiegata in aula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rcRect l="8107" t="-5230" r="32524" b="78189"/>
          <a:stretch/>
        </p:blipFill>
        <p:spPr>
          <a:xfrm>
            <a:off x="0" y="-819000"/>
            <a:ext cx="9144000" cy="3846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6"/>
          <p:cNvSpPr/>
          <p:nvPr/>
        </p:nvSpPr>
        <p:spPr>
          <a:xfrm>
            <a:off x="1042920" y="2781360"/>
            <a:ext cx="381636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2314"/>
                </a:solidFill>
                <a:latin typeface="Gill Sans MT"/>
              </a:rPr>
              <a:t>GRAZIE PER LA CORTESE ATTENZIO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olo 1"/>
          <p:cNvSpPr/>
          <p:nvPr/>
        </p:nvSpPr>
        <p:spPr>
          <a:xfrm>
            <a:off x="395280" y="692280"/>
            <a:ext cx="7993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bb4a2b"/>
                </a:solidFill>
                <a:latin typeface="Gill Sans MT"/>
              </a:rPr>
              <a:t> </a:t>
            </a:r>
            <a:br>
              <a:rPr sz="3400"/>
            </a:br>
            <a:r>
              <a:rPr b="0" lang="it-IT" sz="3400" spc="-1" strike="noStrike">
                <a:solidFill>
                  <a:srgbClr val="4f271c"/>
                </a:solidFill>
                <a:latin typeface="Gill Sans MT"/>
              </a:rPr>
              <a:t>Multimedialità e </a:t>
            </a:r>
            <a:r>
              <a:rPr b="0" lang="it-IT" sz="3200" spc="-1" strike="noStrike">
                <a:solidFill>
                  <a:srgbClr val="3e180e"/>
                </a:solidFill>
                <a:latin typeface="Gill Sans MT"/>
              </a:rPr>
              <a:t>Didattica </a:t>
            </a:r>
            <a:br>
              <a:rPr sz="47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Cambiamento</a:t>
            </a:r>
            <a:br>
              <a:rPr sz="4300"/>
            </a:br>
            <a:r>
              <a:rPr b="0" lang="it-IT" sz="1600" spc="-1" strike="noStrike">
                <a:solidFill>
                  <a:srgbClr val="572314"/>
                </a:solidFill>
                <a:latin typeface="Arial"/>
              </a:rPr>
              <a:t>…nel contesto</a:t>
            </a: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50b5d"/>
                </a:solidFill>
                <a:latin typeface="Arial"/>
              </a:rPr>
              <a:t>Porre  nuov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50b5d"/>
                </a:solidFill>
                <a:latin typeface="Arial"/>
              </a:rPr>
              <a:t>Escogitare nuove 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50b5d"/>
                </a:solidFill>
                <a:latin typeface="Arial"/>
              </a:rPr>
              <a:t>Prevedere  incog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50b5d"/>
                </a:solidFill>
                <a:latin typeface="Arial"/>
              </a:rPr>
              <a:t>Rispondere a nuove s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5510160" y="2785320"/>
            <a:ext cx="2946960" cy="2946600"/>
            <a:chOff x="5510160" y="2785320"/>
            <a:chExt cx="2946960" cy="2946600"/>
          </a:xfrm>
        </p:grpSpPr>
        <p:sp>
          <p:nvSpPr>
            <p:cNvPr id="252" name="AutoShape 5"/>
            <p:cNvSpPr/>
            <p:nvPr/>
          </p:nvSpPr>
          <p:spPr>
            <a:xfrm>
              <a:off x="5876640" y="3305160"/>
              <a:ext cx="2171880" cy="2053800"/>
            </a:xfrm>
            <a:prstGeom prst="pie">
              <a:avLst/>
            </a:prstGeom>
            <a:gradFill rotWithShape="0">
              <a:gsLst>
                <a:gs pos="0">
                  <a:srgbClr val="a97e5b"/>
                </a:gs>
                <a:gs pos="100000">
                  <a:srgbClr val="feb80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150b5d"/>
                  </a:solidFill>
                  <a:latin typeface="Arial"/>
                </a:rPr>
                <a:t>cambiament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eb80a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eb80a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4f271c"/>
                  </a:solidFill>
                  <a:latin typeface="Arial"/>
                </a:rPr>
                <a:t>innovazion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 rot="9366600">
              <a:off x="5866560" y="3141720"/>
              <a:ext cx="2233800" cy="2233440"/>
            </a:xfrm>
            <a:custGeom>
              <a:avLst/>
              <a:gdLst>
                <a:gd name="textAreaLeft" fmla="*/ 326880 w 2233800"/>
                <a:gd name="textAreaRight" fmla="*/ 1906920 w 2233800"/>
                <a:gd name="textAreaTop" fmla="*/ 327240 h 2233440"/>
                <a:gd name="textAreaBottom" fmla="*/ 1906200 h 22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46" y="16485"/>
                  </a:moveTo>
                  <a:cubicBezTo>
                    <a:pt x="4328" y="19250"/>
                    <a:pt x="7455" y="20905"/>
                    <a:pt x="10800" y="20905"/>
                  </a:cubicBezTo>
                  <a:cubicBezTo>
                    <a:pt x="14929" y="20904"/>
                    <a:pt x="18643" y="18392"/>
                    <a:pt x="20179" y="14558"/>
                  </a:cubicBezTo>
                  <a:lnTo>
                    <a:pt x="20824" y="14817"/>
                  </a:lnTo>
                  <a:cubicBezTo>
                    <a:pt x="19183" y="18914"/>
                    <a:pt x="15213" y="21599"/>
                    <a:pt x="10800" y="21600"/>
                  </a:cubicBezTo>
                  <a:cubicBezTo>
                    <a:pt x="7225" y="21600"/>
                    <a:pt x="3882" y="19831"/>
                    <a:pt x="1871" y="16876"/>
                  </a:cubicBezTo>
                  <a:lnTo>
                    <a:pt x="-361" y="18396"/>
                  </a:lnTo>
                  <a:lnTo>
                    <a:pt x="443" y="14161"/>
                  </a:lnTo>
                  <a:lnTo>
                    <a:pt x="4678" y="14966"/>
                  </a:lnTo>
                  <a:lnTo>
                    <a:pt x="2446" y="16485"/>
                  </a:lnTo>
                  <a:close/>
                </a:path>
              </a:pathLst>
            </a:custGeom>
            <a:gradFill rotWithShape="0">
              <a:gsLst>
                <a:gs pos="0">
                  <a:srgbClr val="a97e5b"/>
                </a:gs>
                <a:gs pos="100000">
                  <a:srgbClr val="feb80a"/>
                </a:gs>
              </a:gsLst>
              <a:lin ang="176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7"/>
          <p:cNvSpPr/>
          <p:nvPr/>
        </p:nvSpPr>
        <p:spPr>
          <a:xfrm>
            <a:off x="1763640" y="4437000"/>
            <a:ext cx="640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72314"/>
                </a:solidFill>
                <a:latin typeface="Gill Sans MT"/>
              </a:rPr>
              <a:t>METTERSI IN GIOC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72314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72314"/>
                </a:solidFill>
                <a:latin typeface="Gill Sans MT"/>
              </a:rPr>
              <a:t>Più risc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72314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72314"/>
                </a:solidFill>
                <a:latin typeface="Gill Sans MT"/>
              </a:rPr>
              <a:t>Più possibilit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489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2314"/>
                </a:solidFill>
                <a:latin typeface="Gill Sans MT"/>
              </a:rPr>
              <a:t>RIFLESSIONE:</a:t>
            </a:r>
            <a:br>
              <a:rPr sz="3000"/>
            </a:br>
            <a:r>
              <a:rPr b="0" lang="it-IT" sz="3000" spc="-1" strike="noStrike">
                <a:solidFill>
                  <a:srgbClr val="572314"/>
                </a:solidFill>
                <a:latin typeface="Gill Sans MT"/>
              </a:rPr>
              <a:t>il cambiamento riguarda …</a:t>
            </a:r>
            <a:endParaRPr b="0" lang="en-US" sz="3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8920" y="2057040"/>
            <a:ext cx="6383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a97e5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la socie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a97e5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Il bam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a97e5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Il modo di appr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700360" y="4797360"/>
            <a:ext cx="48592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72314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572314"/>
                </a:solidFill>
                <a:latin typeface="Arial"/>
              </a:rPr>
              <a:t>e  il modo di insegna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Esiste una “disconnessione” </a:t>
            </a:r>
            <a:br>
              <a:rPr sz="3500"/>
            </a:b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tra scuola e nuove generazioni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digital n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M. Prens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http://www.youtube.com/watch?v=aEFKfXiCbL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http://www.youtube.com/watch?v=nkpulteM_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ap generazionale è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ostanzi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riguarda i processi di pensiero e di elaborazione delle inform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12472" t="14004" r="12718" b="13388"/>
          <a:stretch/>
        </p:blipFill>
        <p:spPr>
          <a:xfrm>
            <a:off x="0" y="0"/>
            <a:ext cx="939636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908000" y="1412640"/>
            <a:ext cx="6624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62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riconoscere le potenzialità delle nuove tec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trovare nuovi canali di comunicazione e utilizzare una pluralità di linguagg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assumere l’atteggiamento di sfida e di ricer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aprire probl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cercare soluzioni molteplici e cre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258920" y="33336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Nuova professionalità docent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403280" y="1341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EDUCARE ALLA COMPLESS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RIPENSAMENTO DI TUTTO I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Nuove strategie 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Nuovi modelli didat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PER ORIENTARE ALLA RICERCA DI S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187280" y="18900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Nuova professionalità docent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476360" y="5229360"/>
            <a:ext cx="731052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LI ESITI DEGLI ALUNNI DIPENDONO ANCHE DALLE MODALITÀ DI LAVORO DEGLI INSEGNANTI E DAI SERVIZI DI SUPPORTO ALLO STUDIO  CHE L’ISTITUZIONE È IN GRADO DI PREDISPOR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6:32:00Z</dcterms:created>
  <dc:creator>-</dc:creator>
  <dc:description/>
  <dc:language>en-US</dc:language>
  <cp:lastModifiedBy>Loredana</cp:lastModifiedBy>
  <dcterms:modified xsi:type="dcterms:W3CDTF">2011-09-06T23:35:28Z</dcterms:modified>
  <cp:revision>170</cp:revision>
  <dc:subject/>
  <dc:title>Diapositiva 1</dc:title>
</cp:coreProperties>
</file>